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7D16-B11C-4510-9EB3-9C128633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4C7E-93EC-4623-878C-2228EE37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7F4F-1494-40E9-9CD4-21DEF6A6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9023-87F6-4C53-8AE9-CF5DE9E6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2B7-8964-45AB-AFA0-72DAD014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7349-007C-4420-BDF9-E0165F8C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2655-B581-40F3-AAEC-A0A7FECE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952F-13CD-4C9C-AC8A-408F3ACB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4C51-CF4E-473C-AE6A-B5E3B3F1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D2D-DCB3-4E08-B52E-F1E45978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DBB5-04AA-4CA9-9248-67FABC5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B1F6-D742-442F-9E4A-B5BE4BA3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E747-12B9-4031-BC33-A094FC19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5EB0-5BC6-4A1E-A7CE-97D649A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CDA5-E542-4B71-A076-DF7AC210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874-B73C-4745-97CE-A07A56FC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FEC1-636B-4BFA-96E7-242EF2E2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B98C-BC67-4F22-A85F-2125CD30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BAA7-A480-40E9-AB1A-545213CB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5CF3-924E-43B3-A37B-3F398F41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E463-CCD9-4A02-9684-63F4EFB5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BE22-5803-4201-BEAD-AB0A6E13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862C-BC74-484E-991E-2BD0C302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1B95-06C6-498B-9754-4233AA6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92AD-FB2D-4ECA-B73B-930D4B3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5BAA-E244-44A8-8315-C7E6309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BED8-62FB-4AA2-A1B8-BEE51C7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2598-BD93-447C-9026-C165F5ED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56C0-74AF-4A03-8B07-2A5C6B0A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4F68-8CBB-40ED-B5CA-57BF0D6A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8232-B02D-4089-85C7-BFDAA4F4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E8B0-84F0-473F-91D9-F410C43A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47EF-2EAB-4C36-A6F0-4790B4CA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2B32-462E-42B5-A5A5-8E3D0A9F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2E16-4CB8-4414-B53B-CC2EED9C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3DE9-0417-4B17-B382-E640010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D5D-9C1A-4994-86C2-AFCA4B351B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426-9A6E-49F2-BA77-D766B95B8A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03E8-E33D-42EF-BB4E-41FAB1B2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430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Montesquieu e as suas contribuições para o pensamento político moderno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30492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366840"/>
            <a:ext cx="85327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Charles-Louis de Secondat, Barão de Montesquieu (1689-17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Filósofo político francês, formado em Dire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Aristocr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Humanista (Iluminism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Crítico severo da monarquia absolutista decadente e do cl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Num contexto liberal, a política de Montesquieu </a:t>
            </a: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exposta no Espírito das Leis (1748), surge como essencialmente racionalis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Ela se caracteriza pela busca de um justo equilíbrio entre a autoridade do poder e a liberdade do cidadã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Para que ninguém possa abusar da autoridade, "é preciso que, pela disposição das coisas, o poder detenha o poder". Daí a separação entre poder legislativo, poder executivo e poder judiciário.</a:t>
            </a: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O poder deve limitar o poder, para efetivar a LIBERDA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Essa é a condição para o respeito às leis e para a segurança dos cidadãos: nenhum poder pode ser ilimitado (SISTEMA DE FREIOS E CONTRA-PES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Montesquieu possui, sobretudo, uma concepção racionalista das leis que não resultam dos caprichos arbitrários do soberano, mas são "relações necessárias que derivam da natureza das coisas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34920" y="476280"/>
            <a:ext cx="914400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ontesquieu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monta um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POLOGIA DE GOVERN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 apoiado em uma análise das causas – uma análise de causas soci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ssim os dividia 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públ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onarqu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spotism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 sempre haveria u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ntiment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(um sentimento humano, já que o governo é feito por homens, sendo o Estado um ser juridicamente construído) correspondente ao tipo de governo; no caso d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públi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eria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RTUD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; n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onarquia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ONR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e n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spotismo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D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ses sentimentos são humanos e se expressam socialme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Repúbli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é a associação de todos para o bem comum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rtud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Monarqui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usca o sentimento de honra para justificar seu poder (mas é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onra privada, a honra do governante para fazer bem aos governado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e não a pública), organizando um governo ju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-240120"/>
            <a:ext cx="8664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á o Despotismo tem o medo como base, que diz respeito à impossibilidade dos homens determinarem a própria vi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rtude tem que estar consignada na lei (que é igual para tod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nra é privada, exercendo a Monarquia um poder que a todos alcança, mas devendo respeitar a lei, que é igual para todos; ou seja, o rei governa, mas está limitado pela lei e, invariavelmente, essa lei se expressa na lei maior, em uma Constituiçã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governo despótico não existe lei – a lei é a vontade do déspota – É ARBITRÁRIA. A única coisa que limita o déspota é a religião, o medo da morte e do fim provável no infern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to República quanto Monarquia utilizam-se da lei para governar. O Despotismo se utiliza do arbítr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arquia - soberania nas mãos de uma só pessoa (o monarca) segundo leis positivas e o seu princípio é a honr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potismo - soberania nas mãos de uma só pessoa (o déspota) segundo a vontade deste e o seu princípio é o med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ública - a soberania está nas mãos de muitos (de todos = democracia, ou de alguns = aristocracia) e o seu princípio motor é a virtud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4428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a Montesquieu, cada forma de governo é adequada a um determinado volume de território e determinada quantidade popul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República não poderia ser realizada em território muito extenso e deveria ser composta de poucas pessoas, havendo bastante proximida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Monarquia pressupunha território médio (sendo que o governo seria dividido com a nobreza, através da lealdade, pois a nobreza estaria espalhada pelo territóri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Despotismo seria característico de grandes margens territoriais, não havendo proximidade social entre os se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Estado necessariamente seria uma construção com base na extensão territorial e na quantidade populacional na visão de Montesqui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a visão de Montesquieu, somente na Monarquia haveria TRIPARTIÇÃO DOS PODERES, pois sua Monarquia era a Constitu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magistratura seria exercida por um poder impessoal; o rei governaria, mas calcado em uma con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 leis são prévias, claras e objetivas. Quem cria as leis são os representantes do povo, regidos por um rei justo. Não é o próprio rei quem cria as leis que irão reger a sociedade e o Estad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 fim, Montesquieu cria uma teoria fundada na LIBERDA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idéia de liberdade e justiça são eminentemente humanas, não divinas. A Bíblia foi escrita pelos homens, não caiu do cé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valor da justiça estará sempre associado à liberdade para MONTESQUI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sim, observa-se que o Estado moderno é calcado sobre valores (justiça, liberdade, igualdade, fraternidade, etc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0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5080" y="755640"/>
            <a:ext cx="86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ão política e idéias princip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a contra o absolutismo (forma de governo que concentrava todo o poder do país nas mãos do rei). Por isso, defendia a divisão do poder em trê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Executivo (órgão responsável pela administração do território e concentrado nas mãos do monarca ou regent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Legislativo (órgão responsável pela elaboração das leis e representado pelas câmaras de parlamentares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Judiciário(órgão responsável pela fiscalização do cumprimento das leis e exercido por juízes e magistrad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z várias críticas ao clero católico, principalmente, sobre seu poder temporal e interferência políti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ndia aspectos democráticos de governo e o respeito das lei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631960" y="177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ndrew Mores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33560" y="2852640"/>
            <a:ext cx="347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iscila Gibi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76560" y="4417920"/>
            <a:ext cx="299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afael Marcian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7:31:23Z</dcterms:created>
  <dc:creator>fabinho</dc:creator>
  <dc:description/>
  <dc:language>en-US</dc:language>
  <cp:lastModifiedBy>fabinho</cp:lastModifiedBy>
  <dcterms:modified xsi:type="dcterms:W3CDTF">2009-08-31T19:03:39Z</dcterms:modified>
  <cp:revision>2</cp:revision>
  <dc:subject/>
  <dc:title>Montesquieu e as suas contribuições para o pensamento político moderno</dc:title>
</cp:coreProperties>
</file>